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January 30th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2721-6FC1-4236-8790-863A967C05AA}" type="slidenum">
              <a:rPr b="0" lang="nn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January 30th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31F8-C40A-4F17-B5B9-0FA7419934D1}" type="slidenum">
              <a:rPr b="0" lang="nn-N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A1D84-F226-4C50-B7C7-0188F3663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7AE40-4226-4CD2-8790-BB7E5C0978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D5ED9-08DD-4F9E-9117-EC8322A819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8F9B7-7CFB-4548-AE3A-1ED043D734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B405F-8EF1-4128-BA4E-F48F4BEA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552E0-9FC5-475B-81C2-2BF67404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AA72F-D1F6-4249-BC9B-8F3BEA18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D06C9-16BE-43CC-956A-47538311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3410A-08AE-4A2E-AF60-1EFB241A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AB2CB-2F87-4E26-9EDC-BFAAD02C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1C872-B34E-4F0A-9C99-D144EF5B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FAAC1-C447-40FF-BCFA-C117052F1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A683C-411C-49CF-8341-69550895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24CC8-3B06-4776-870E-2158BC29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69CA0-8ED4-4595-AB54-5EFFDF03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3B03A-BBE8-4806-8060-6B99B5D8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5541F-75DA-4DB6-BDCB-8B914171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31C31-0507-4B3B-89B9-7F6FFA6855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5504C-15F0-4C61-BC45-7560C05AA81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86DBB-CE35-4EE2-A10B-6C51FAB6F92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61B6A-C62F-408D-AC10-E965A147E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390AF-AB22-4207-B968-3CDE78D6FF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E9580-DC47-4D25-BB9F-04C553DFF74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5F927-8F0D-4874-B166-AB6444D2ED4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608EF-A02F-4C8A-B8FD-5D100A02413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43138-0A68-4BC3-801D-D5EAA4D47DC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8BDB4-CD0E-4E16-99BD-698F35F5C2E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19454-D831-4DA6-A943-B2DD7DCCB79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E9DF5-492E-4F70-8F24-98D44527BCE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0CE94-4674-4463-8C6D-4CC1BD7141F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260C0-7112-41BE-8D10-0B5D701A234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1517-D93D-4DA3-972B-7E4630E71A2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C2A87-E343-44EF-B429-B2AB619E016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50B20-BF1E-4277-B227-19D81C6E8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0B7EB-094E-4EDF-AD2A-D2408E4EF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3BD1-2D42-4A6F-9AB2-E251BD4638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486480"/>
            <a:ext cx="9144000" cy="2811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713360" y="6527520"/>
            <a:ext cx="9716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519E-C599-4329-A3F4-FE71D0A8227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457200" y="6527880"/>
            <a:ext cx="7132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4"/>
          <p:cNvSpPr/>
          <p:nvPr/>
        </p:nvSpPr>
        <p:spPr>
          <a:xfrm>
            <a:off x="457200" y="6499080"/>
            <a:ext cx="5356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Nome Palestrante </a:t>
            </a:r>
            <a:r>
              <a:rPr b="0" lang="mr-IN" sz="1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email@ifba.edu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822240" cy="93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09600" indent="0"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629F-EB39-4947-B5C8-23004B8C86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09600" indent="0"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0" y="6486480"/>
            <a:ext cx="9144000" cy="2811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6527880"/>
            <a:ext cx="7132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57200" y="6499080"/>
            <a:ext cx="5356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Nome Palestrante </a:t>
            </a:r>
            <a:r>
              <a:rPr b="0" lang="mr-IN" sz="1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email@ifba.edu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822240" cy="93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5"/>
          </p:nvPr>
        </p:nvSpPr>
        <p:spPr>
          <a:xfrm>
            <a:off x="7713360" y="6527520"/>
            <a:ext cx="9716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3375-015F-42F9-81D2-6556F57B12C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4920" y="1768320"/>
            <a:ext cx="90709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Oswald Regular"/>
              </a:rPr>
              <a:t>Tema da Apresentaçã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520" y="3497400"/>
            <a:ext cx="90709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tillium Web"/>
              </a:rPr>
              <a:t>Nome Palest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tillium Web"/>
              </a:rPr>
              <a:t>Departamento do Palestra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tillium Web"/>
              </a:rPr>
              <a:t>email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9417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swald Regular"/>
              </a:rPr>
              <a:t>Fontes utilizadas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Titillium Web"/>
              </a:rPr>
              <a:t>Esta apresentação utiliza as seguintes fontes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Titillium Web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Oswald Regular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UbuntuMono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Titillium Web"/>
              </a:rPr>
              <a:t>Você deve ter elas instaladas em seu computador.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7713720" y="6527880"/>
            <a:ext cx="9716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DAE4-2D14-4CDE-8A29-3E7E21AF566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0:16:24Z</dcterms:created>
  <dc:creator>Even Gran</dc:creator>
  <dc:description/>
  <dc:language>en-US</dc:language>
  <cp:lastModifiedBy>Renato Novais</cp:lastModifiedBy>
  <cp:lastPrinted>2018-06-26T20:36:17Z</cp:lastPrinted>
  <dcterms:modified xsi:type="dcterms:W3CDTF">2018-07-04T18:06:47Z</dcterms:modified>
  <cp:revision>1686</cp:revision>
  <dc:subject/>
  <dc:title>Ingen lysbildetittel</dc:title>
</cp:coreProperties>
</file>