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1A66-A655-4F49-9410-4859C62891E1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F39F-FC92-4089-96EA-F43CBAC8E79C}" type="slidenum">
              <a:rPr b="0" lang="nn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029E-7BBD-4B8B-8839-C4C9CA71C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1DC8-BBBB-47DB-8B94-FA59DBFE5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F32E-81A6-4142-8993-6CC522470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2C26-EB8F-409D-BCEF-35F7F553B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E018F-ED38-4AC1-817A-8488FA40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071D6-4084-49A0-A4F0-0EB950AE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FE447-B0A5-4799-91B7-968044A7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7D011-1BC3-4A17-BDD8-1EF66243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079DC-A6C1-468F-82F8-83A50807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9A9E2-DB2F-4785-8606-03A7C520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6F8F3-0C1A-427E-87DE-3AC4C8AE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61B8-2E73-4663-9563-B5C53A074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EBEA7-D10A-49EC-A991-8C8DEDBA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2FF7E-B016-4333-B37F-F91173AB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F77DB-8D40-4678-9EB9-C2BDE040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D2D9D-DA3B-4346-888D-5C6C9625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151FA-5A44-442C-A867-71CC4E2E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5071-767C-4700-B3AA-6855974999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2DDFE-7D45-4D8D-A183-ADB12FC14F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CD53E-EC31-4A2A-A04D-CBDB2F76B5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3D081-DAAF-4F79-A5DA-AEF4A2A82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8B2B-75D9-43E9-98B4-3F5642DD5A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F0C42-FB91-4D3B-A29D-70F89A88A1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1EA8F-9424-421A-9A83-9F477F4BA5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FE0A5-813B-42BB-BA2F-1FDDE0B5B4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BDB19-C7E5-4CC5-A6A0-E9B9BAD174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C7DB1-95EC-4049-8AB7-EA4E31E1FE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65428-257A-4675-82C0-0903EC38C7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B0639-EAA1-4C6F-A393-939E17C021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DD65D-5D85-4C8B-A6A2-130029F007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02E2B-56C4-4D42-8AC7-EF960D586E9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E0C5-3803-4960-A3EC-9BDDAB3D2F5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1DBF-931C-46D7-AE01-0A4A33CF0E9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EC21-9772-4C7A-BAEC-444A9DCAF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A1BB-2CCF-495A-9F2E-9CFB864E2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68F2-B55B-4E89-972E-57D14CF66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BECD-01B3-4DCA-AC48-2DB12C99ECE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640D-5238-48B5-87CD-D47DBFA63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9AEA-D51D-4383-9B30-E6697A12236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4920" y="1768320"/>
            <a:ext cx="90709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Oswald Regular"/>
              </a:rPr>
              <a:t>Tema da Apresentaç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520" y="3497400"/>
            <a:ext cx="9070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tillium Web"/>
              </a:rPr>
              <a:t>Nome Palest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Departamento do Palestr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email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swald Regular"/>
              </a:rPr>
              <a:t>Fontes utilizadas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Esta apresentação utiliza as seguintes fontes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Titillium Web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Oswald Regular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UbuntuMono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Você deve ter elas instaladas em seu computador.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713720" y="6527880"/>
            <a:ext cx="971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3079-B984-4837-82BD-258D13072D1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16:24Z</dcterms:created>
  <dc:creator>Even Gran</dc:creator>
  <dc:description/>
  <dc:language>en-US</dc:language>
  <cp:lastModifiedBy>Renato Novais</cp:lastModifiedBy>
  <cp:lastPrinted>2018-06-26T20:36:17Z</cp:lastPrinted>
  <dcterms:modified xsi:type="dcterms:W3CDTF">2018-07-04T18:06:47Z</dcterms:modified>
  <cp:revision>1686</cp:revision>
  <dc:subject/>
  <dc:title>Ingen lysbildetittel</dc:title>
</cp:coreProperties>
</file>