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0D28-5198-41B1-B56F-709A277687A7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BDE5-6B98-4C1C-825C-7445938AB0E1}" type="slidenum">
              <a:rPr b="0" lang="nn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DD1C-FE4A-4A38-B6B9-D319D5A95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8DDB-49BE-4F7E-B801-FE17D2A9F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9B92-B799-47FA-8EFC-11207875E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48C9-7C58-47BB-B668-A99BE52BC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4826A-2C31-484F-A957-CCBFC1B0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F00F9-3671-43BC-A781-ACB4E6B6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E3DB7-04C3-41FF-A46E-0A2FD00B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C8B61-E4AF-40EC-9023-76295E41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68527-5FD5-4FDB-B96A-F6003212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B7FE8-4FB6-432D-86C6-FA0D7D10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6F3ED-1FC0-4E67-878B-D2A11FB0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20F6-5667-43C6-857B-61D25B463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6525E-E4B2-4757-850A-79E171BD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747FC-80BD-4FDB-8D26-3EE53A21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97ABB-819E-4B70-B416-18F76AA6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7D8FA-81E9-4A40-A20B-5025C669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E7A57-D0F2-475B-B8A4-36CEA842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F988-7DFC-4A09-A935-A6B2F09650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78FB6-95E4-4796-AACE-0948C60A56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7FFF0-764C-4BC4-8F73-5C5214EE1C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28729-ED2D-42F3-A1AB-43D02DAF3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BCB9-7086-4A73-A0F7-F772938B1F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F2409-B1AE-4AD1-A004-C475D6CDB5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917C0-27E7-45F8-9A7F-4BF1CC1451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B90C3-75F9-4EC0-9C45-DC232D5E28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067F9-F8F6-4779-BE8D-E941DF7742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93945-534D-4318-99AD-7EDFBE81FB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98942-2C1C-4062-98FB-D12AED5A8F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A74FB-6E72-425B-A965-F380066E64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C3AF3-E1CB-4525-A376-BD98B9F203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7D4FA-F1B2-4E3E-8FD6-81F8976A492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6AA1-110B-4AE3-86CB-AE2E7C3063D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D11C-C170-4C46-84AB-95B16A74435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2DDB-CEB5-437F-8C73-DFDAE6D97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0201-696B-4AFA-A645-E5F710D0C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F67E-CE4D-4E99-BD8D-73C653016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A4B9-E7DE-43FF-94D5-05BC3D1FFA7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D1AE-025A-4CB1-8C56-7F3CD693D2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8FE3-A672-44A9-9F67-DA7353DBDDF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4920" y="1768320"/>
            <a:ext cx="90709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Oswald Regular"/>
              </a:rPr>
              <a:t>Tema da Apresentaç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520" y="3497400"/>
            <a:ext cx="9070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tillium Web"/>
              </a:rPr>
              <a:t>Nome Palest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Departamento do Palestr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email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swald Regular"/>
              </a:rPr>
              <a:t>Fontes utilizadas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Esta apresentação utiliza as seguintes fontes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Titillium Web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Oswald Regular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UbuntuMono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Você deve ter elas instaladas em seu computador.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713720" y="6527880"/>
            <a:ext cx="971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38CF-1069-4ACE-8EFA-F1CEF7F2E63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16:24Z</dcterms:created>
  <dc:creator>Even Gran</dc:creator>
  <dc:description/>
  <dc:language>en-US</dc:language>
  <cp:lastModifiedBy>Renato Novais</cp:lastModifiedBy>
  <cp:lastPrinted>2018-06-26T20:36:17Z</cp:lastPrinted>
  <dcterms:modified xsi:type="dcterms:W3CDTF">2018-07-04T18:06:47Z</dcterms:modified>
  <cp:revision>1686</cp:revision>
  <dc:subject/>
  <dc:title>Ingen lysbildetittel</dc:title>
</cp:coreProperties>
</file>