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E32E-FBD5-4035-922A-7F30F7FA9230}" type="slidenum"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DF2E-7443-4781-9689-EDD6FBEF3E88}" type="slidenum">
              <a:rPr b="0" lang="nn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C304F-2B15-498A-B709-070EAEBD8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6E13-BE41-4A88-A2D2-8C043869F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0FD89-B1A3-4672-AA06-48CD2A9DB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D6F7-391E-4FB1-9B19-C0AF1356F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408CD-50F0-4921-84EF-14385B6D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F7DE2-EF74-4743-9672-35E64138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76089-936C-4541-8E40-A96CDD49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89910-7CC9-4F45-ACD2-9843DBA0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F6900-23FC-4A72-BE14-47C917BC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0EF88-FDEC-4F43-AC40-A235A0A1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1B103-CA72-4C19-8420-B784608F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9442-41A8-4975-9C37-B2003974A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25756-4C54-4427-A740-4C52ED77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90667-ACCF-4DAD-B4D4-F3C5F7E5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984A5-90A5-4234-B189-42E3E915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6C651-D72A-40F3-9F3F-717E1D96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48819-734E-4888-B79D-39E078E9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7456-6BAB-48A6-B875-C48A0A4789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BC14E-BC9F-49B7-948B-0A4A14F37B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47199-B3E7-4F4C-A8C3-783FBE44D9E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A644F-0971-4B8A-98F7-8E210A167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73322-8F15-4633-9D9C-A31BFF0384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551A0-4BD9-4045-89BE-7DE3FB374A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36121-8F7D-4EC1-BD20-C176D783EE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5F3F2-6DAE-42D6-B42E-3D81BA3A759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31597-D672-4FC2-A671-4197A541DA9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D2E40-1648-42AF-8021-06999F7BBE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F99FE-8F3A-4BDC-8554-6668B9B4410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739BC-BE09-4CE4-ADB0-AE6FD07C5DA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3BABB-A5ED-450B-ADD2-346DA49EB6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1799F-4CF8-42DB-B48C-99FB513C4C6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61CE-8DF4-4D3E-AF1F-E10A96ACF0D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FB406-BC6D-4FC9-8F18-B40C3957BB3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E1EA0-40FF-408A-A2E2-20286D63E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186B5-F0AC-424D-95D0-8F3930A8B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8103B-419A-48C7-AA0B-1671853AF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1BD2-CD0D-4352-AAF1-4211935621B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5A94-89DC-4198-B040-3F50CCFFE1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5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AC5A-450F-471E-A6B8-9627F4B9D08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4920" y="1768320"/>
            <a:ext cx="90709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Oswald Regular"/>
              </a:rPr>
              <a:t>Tema da Apresentaçã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520" y="3497400"/>
            <a:ext cx="90709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tillium Web"/>
              </a:rPr>
              <a:t>Nome Palest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Departamento do Palestra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email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9417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swald Regular"/>
              </a:rPr>
              <a:t>Fontes utilizadas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Esta apresentação utiliza as seguintes fontes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Titillium Web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Oswald Regular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UbuntuMono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Você deve ter elas instaladas em seu computador.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7713720" y="6527880"/>
            <a:ext cx="9716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F3B8-4067-4B44-BA44-C82279D836C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0:16:24Z</dcterms:created>
  <dc:creator>Even Gran</dc:creator>
  <dc:description/>
  <dc:language>en-US</dc:language>
  <cp:lastModifiedBy>Renato Novais</cp:lastModifiedBy>
  <cp:lastPrinted>2018-06-26T20:36:17Z</cp:lastPrinted>
  <dcterms:modified xsi:type="dcterms:W3CDTF">2018-07-04T18:06:47Z</dcterms:modified>
  <cp:revision>1686</cp:revision>
  <dc:subject/>
  <dc:title>Ingen lysbildetittel</dc:title>
</cp:coreProperties>
</file>