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BD54-4492-445A-87D8-1A8B99B2CAC0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7E14-3E2B-45FE-8A5C-1231D09B19EB}" type="slidenum">
              <a:rPr b="0" lang="nn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46C0-38B1-40E4-BCD2-26B41F8B7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1CA9-4258-45F2-85C1-760DC9EF2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C415-0231-48C9-8FFB-B997E73A6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2C9D-F1C6-4CC4-81E9-4BD814B54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38CC0-2861-410A-9C27-614D9482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68586-6E5F-4DFA-8B4D-B2438196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6E469-A784-4B0B-A089-5A88FAAC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C7BF9-1020-444A-B77C-51BC8AED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9B0AD-32CF-4774-8D5D-C8C15301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3733A-38A3-4916-90AC-BFDCF522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E03CF-DBEB-45E4-B22D-AC1BE843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E4B2-E8A5-4B46-AEC3-54D0FA80F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5C518-15F7-4A3C-BB37-32DD10AC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55C09-5F88-4A03-ABBA-D8E70061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97001-E69E-443C-941B-D08FAD7E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CE1F3-D6D2-4C3D-A3DE-1A6CD50E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DEF02-2582-49D1-8E5E-13D328D7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9850-6D54-4734-89DE-60F4040960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C2747-6017-498E-9D4F-23B9506360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3E79A-83C3-4D7D-99D6-8A588BFFBC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42EFE-9837-41C3-93B5-70395F2B1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9801-003E-4033-9451-51BF1F44D3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BC9DC-4C23-430C-AA75-4F3258EAEC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8EDB6-2F6B-45A0-A630-A6D59E8F9E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7FE1B-EEDF-4776-A1BC-036506D43A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E86D0-D597-4B89-ABD4-0CB9C72348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90032-46CF-47FE-A550-4529247FF1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3B9C8-596B-4D8D-A080-4255E70F00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69A4C-78A9-44D3-B84B-E55CD31DF7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03DEC-9EC2-48EC-AD3C-E9EF55A3B25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4EA01-7D37-43FB-A54B-C772CA2A337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BDBC-5C34-47F5-8F99-258E1D3A497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D154-915C-4EF8-951E-F85ECCEFE89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492C-ADF3-4436-A663-5F22E153D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E9A2-E17F-4F31-A5A7-5A49C44F2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63D9-2A68-4EF0-9F11-453C1B20B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D451-5132-4BC7-85EB-152621A101F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D438-0043-4EBB-BDA2-AC6D0D1D1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24B2-A2CA-4DAC-8741-EE920EB768E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4920" y="1768320"/>
            <a:ext cx="90709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Oswald Regular"/>
              </a:rPr>
              <a:t>Tema da Apresentaç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520" y="3497400"/>
            <a:ext cx="9070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tillium Web"/>
              </a:rPr>
              <a:t>Nome Palest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Departamento do Palestr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email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swald Regular"/>
              </a:rPr>
              <a:t>Fontes utilizadas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Esta apresentação utiliza as seguintes fontes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Titillium Web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Oswald Regular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UbuntuMono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Você deve ter elas instaladas em seu computador.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713720" y="6527880"/>
            <a:ext cx="971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B2FA-730A-4D9E-B4D1-5D10CC044E9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16:24Z</dcterms:created>
  <dc:creator>Even Gran</dc:creator>
  <dc:description/>
  <dc:language>en-US</dc:language>
  <cp:lastModifiedBy>Renato Novais</cp:lastModifiedBy>
  <cp:lastPrinted>2018-06-26T20:36:17Z</cp:lastPrinted>
  <dcterms:modified xsi:type="dcterms:W3CDTF">2018-07-04T18:06:47Z</dcterms:modified>
  <cp:revision>1686</cp:revision>
  <dc:subject/>
  <dc:title>Ingen lysbildetittel</dc:title>
</cp:coreProperties>
</file>