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94EF-CA95-4EAB-9F34-103ADE233B74}" type="slidenum"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C42F-44D3-4A22-80D1-19EDCFE69413}" type="slidenum">
              <a:rPr b="0" lang="nn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0D11-EFFC-4B9B-A578-D3E1C0984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F1C2E-98EE-4B4F-AD31-0D61E9B30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786C-40E6-414C-8FB8-F9DC1FD19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AF2F-B471-44B6-9DC8-FAD69B2FC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217C5-D6B4-4595-9380-CA1B6FA3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0184A-44EF-4CF4-8337-D7650C72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5E4B2-6F0B-44A1-A543-F85EF3D6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C372E-E32B-4EA1-80E7-4BC1C538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AF99F-880F-4D93-9471-1FE4A163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A9209-C1C8-4EB9-A513-D5377680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A8684-DBED-4D32-9C95-EC6C1C55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E7C0-68F0-4EDE-8924-BF0330414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3EE29-6602-44C6-9851-4B5564E7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320EE-8101-47FC-87D2-3ABA1AE7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45D12-ACC2-4B2D-869F-7EC48364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DFB90-0730-4768-A628-3A38B12C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1DF6C-1FDE-446D-AEB9-003492FE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EF0F-7EF3-4FE4-B75E-60D9C7E859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163D1-CB79-4C63-B615-CCDC41AC16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6C559-6671-484C-89D5-743928DC5D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B5EA9-B51D-4CEF-B27D-44F135B61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E0A5-64AE-4730-A609-623B6E0910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A140D-B64B-4430-BE9F-CA4CF2CF9FA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A13AA-DDF7-427D-8E4D-7DF0EDAB049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59C9E-5A79-4E45-A6AA-4A90DC9813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93844-C3CD-4BE1-BDD0-22DCE676C9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F69D2-2261-478F-BDB5-79C92BF0B1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F0151-276C-45FF-B706-1C2E5793C1B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8CDEE-CB74-4F11-B304-23261A038E5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DF323-E1E5-412C-AEC4-5D93C94277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D20E0-BAF3-4478-A269-E623B4C57DC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FBEB-6EB7-4175-94D1-63AB46FF4F1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E34F-3AE9-4981-A8B8-2E9C953F21F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C8D6-0871-49A2-8DDC-5A72A0522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E3D9-517F-4497-8798-2553C978E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4DCC-48C2-4184-924E-0CEF90BDB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EFD1-CF81-4401-8922-94C335C14B7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CEDC-DBCE-4D2D-89A9-0A4B3D8DC8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5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76DC-D698-4435-A8F7-F64CA9AA083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4920" y="1768320"/>
            <a:ext cx="90709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Oswald Regular"/>
              </a:rPr>
              <a:t>Tema da Apresentaçã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520" y="3497400"/>
            <a:ext cx="90709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tillium Web"/>
              </a:rPr>
              <a:t>Nome Palest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Departamento do Palestr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email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941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swald Regular"/>
              </a:rPr>
              <a:t>Fontes utilizadas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Esta apresentação utiliza as seguintes fontes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Titillium Web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Oswald Regular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UbuntuMono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Você deve ter elas instaladas em seu computador.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713720" y="6527880"/>
            <a:ext cx="971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7B0F-ACF4-452F-B7B8-2ACC72D831B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0:16:24Z</dcterms:created>
  <dc:creator>Even Gran</dc:creator>
  <dc:description/>
  <dc:language>en-US</dc:language>
  <cp:lastModifiedBy>Renato Novais</cp:lastModifiedBy>
  <cp:lastPrinted>2018-06-26T20:36:17Z</cp:lastPrinted>
  <dcterms:modified xsi:type="dcterms:W3CDTF">2018-07-04T18:06:47Z</dcterms:modified>
  <cp:revision>1686</cp:revision>
  <dc:subject/>
  <dc:title>Ingen lysbildetittel</dc:title>
</cp:coreProperties>
</file>