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Times New Roman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n-N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0B97-B7CE-4EED-944A-03D7EC332FF7}" type="slidenum">
              <a:rPr b="0" lang="nn-N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000000"/>
                </a:solidFill>
                <a:latin typeface="Arial"/>
              </a:rPr>
              <a:t>January 30th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D92F-3540-4CD2-A27A-F33A93183FEB}" type="slidenum">
              <a:rPr b="0" lang="nn-NO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3227-6A8E-4C97-9FC0-3B5323D0E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3DA0-C617-4DC1-91AA-4EB8AC6EF3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83763-075C-4C17-9029-7DF10AE9E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8AECA-6EDB-4DF8-8245-776E024F3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81C7B3-4D9C-40C2-AAB7-370B5D900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191A14-272E-43A2-9280-99C7AA38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11A9D-086F-449D-BD4A-9494AB24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4134D-2AB0-4704-AB43-B2362BD1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D08C7-CECB-47F9-AC36-6C5C0FDB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6EDE6-CEEF-4C19-B05E-46F32C22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49198-45C9-40F8-9092-7BF14239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FEBE-57FD-435D-9F09-4CBBE6FBB3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D292A-3990-480E-9049-1D8A95D5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339F65-ACD0-4D74-8B80-F99967D1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2A49D-7607-45D6-B09E-C9D3108A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4E140-BF50-440C-8A72-38C82618A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FE5FB-2CC4-4AEB-A2D6-3DC4DB2C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AEE64-5A33-443C-A654-0F71BE29BF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1A2FF-5DA6-4762-B4A3-17CD8A536B4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22448-3B00-49B5-948F-E77A70B12E8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2C57C-A5FB-446B-B669-CF396B24F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744E-F1ED-43DE-81FF-4EDC2DAA5A0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F5F1E-B03F-4B66-92F6-5874AA4177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519DC-72ED-41B1-959D-5D697DD4E58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02C48E-93D6-45D0-A920-25DA8A831E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0CEEC-3DF2-4421-BB62-A00DED7CD31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C104D-E3A5-4730-B9B7-9AE269A8D1D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38237-D594-4D4C-AC0F-11F5B593181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0FBDB-1906-40E6-9979-E9C7262FE2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BCD47-DE8A-40A2-A370-41595256275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A3A60-9422-4BAD-9013-C8966D9BF6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CE8A-8020-47B6-B91F-FC7AB51BC2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1000"/>
              </a:lnSpc>
              <a:spcBef>
                <a:spcPts val="1287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115560"/>
            <a:ext cx="7993080" cy="530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4B4B-A4BC-41CF-887E-F440E09F74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7376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68240" y="141300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7928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7376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68240" y="4008240"/>
            <a:ext cx="285156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8B10-654B-49E4-A1E3-2821CC5AA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440" y="400824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4DF4-57E4-4F7C-AD2A-47A813640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440" y="1413000"/>
            <a:ext cx="432180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9280" y="4008240"/>
            <a:ext cx="8856720" cy="23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1000"/>
              </a:lnSpc>
              <a:spcBef>
                <a:spcPts val="1287"/>
              </a:spcBef>
              <a:buNone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DCD18-5DA6-4F9B-891D-0F114DEAF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A281-4E5A-436B-8E34-C1C756C38DD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FBA - &lt;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6E4B-95F6-4F9C-A51D-84B39F495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5920" bIns="0" anchor="t">
            <a:normAutofit/>
          </a:bodyPr>
          <a:p>
            <a:pPr marL="309600" indent="0">
              <a:lnSpc>
                <a:spcPct val="93000"/>
              </a:lnSpc>
              <a:spcBef>
                <a:spcPts val="1287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Bef>
                <a:spcPts val="1287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"/>
          <p:cNvSpPr/>
          <p:nvPr/>
        </p:nvSpPr>
        <p:spPr>
          <a:xfrm>
            <a:off x="0" y="6486480"/>
            <a:ext cx="9144000" cy="2811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7200" y="6527880"/>
            <a:ext cx="7132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96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57200" y="6499080"/>
            <a:ext cx="53560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FBA  – Nome Palestrante </a:t>
            </a:r>
            <a:r>
              <a:rPr b="0" lang="mr-IN" sz="14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email@ifba.edu.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822240" cy="936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5"/>
          </p:nvPr>
        </p:nvSpPr>
        <p:spPr>
          <a:xfrm>
            <a:off x="7713360" y="6527520"/>
            <a:ext cx="971640" cy="1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2B36-C6A4-44C7-BECB-FA4EA3839F2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Oswald Regular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2" marL="112248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3" marL="1536840" indent="-2937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4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5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6" marL="1968480" indent="-30960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tillium Web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34920" y="1768320"/>
            <a:ext cx="90709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Oswald Regular"/>
              </a:rPr>
              <a:t>Tema da Apresentaçã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7520" y="3497400"/>
            <a:ext cx="907092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tillium Web"/>
              </a:rPr>
              <a:t>Nome Palestr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Departamento do Palestran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Titillium Web"/>
              </a:rPr>
              <a:t>email@ifba.edu.b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49417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9308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1000"/>
              </a:lnSpc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swald Regular"/>
              </a:rPr>
              <a:t>Fontes utilizadas</a:t>
            </a:r>
            <a:endParaRPr b="0" lang="en-US" sz="4000" spc="-1" strike="noStrike">
              <a:solidFill>
                <a:srgbClr val="000000"/>
              </a:solidFill>
              <a:latin typeface="Oswald Regular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79280" y="141300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Esta apresentação utiliza as seguintes fontes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Titillium Web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Oswald Regular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lvl="1" marL="782640" indent="-293760">
              <a:lnSpc>
                <a:spcPct val="111000"/>
              </a:lnSpc>
              <a:spcBef>
                <a:spcPts val="10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Titillium Web"/>
              </a:rPr>
              <a:t>UbuntuMono</a:t>
            </a:r>
            <a:endParaRPr b="0" lang="en-US" sz="2500" spc="-1" strike="noStrike">
              <a:solidFill>
                <a:srgbClr val="000000"/>
              </a:solidFill>
              <a:latin typeface="Titillium Web"/>
            </a:endParaRPr>
          </a:p>
          <a:p>
            <a:pPr marL="414360" indent="-414360">
              <a:lnSpc>
                <a:spcPct val="111000"/>
              </a:lnSpc>
              <a:spcBef>
                <a:spcPts val="1287"/>
              </a:spcBef>
              <a:buClr>
                <a:srgbClr val="000000"/>
              </a:buClr>
              <a:buFont typeface="Arial"/>
              <a:buChar char="•"/>
              <a:tabLst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  <a:tab algn="l" pos="8701200"/>
              </a:tabLst>
            </a:pPr>
            <a:r>
              <a:rPr b="0" lang="pt-PT" sz="2900" spc="-1" strike="noStrike">
                <a:solidFill>
                  <a:srgbClr val="000000"/>
                </a:solidFill>
                <a:latin typeface="Titillium Web"/>
              </a:rPr>
              <a:t>Você deve ter elas instaladas em seu computador.</a:t>
            </a:r>
            <a:endParaRPr b="0" lang="en-US" sz="2900" spc="-1" strike="noStrike">
              <a:solidFill>
                <a:srgbClr val="000000"/>
              </a:solidFill>
              <a:latin typeface="Titillium Web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7713720" y="6527880"/>
            <a:ext cx="97164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92000"/>
              </a:lnSpc>
              <a:tabLst>
                <a:tab algn="l" pos="0"/>
                <a:tab algn="l" pos="41436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DD56-10D6-4527-BE90-C357D5EFBA4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10:16:24Z</dcterms:created>
  <dc:creator>Even Gran</dc:creator>
  <dc:description/>
  <dc:language>en-US</dc:language>
  <cp:lastModifiedBy>Renato Novais</cp:lastModifiedBy>
  <cp:lastPrinted>2018-06-26T20:36:17Z</cp:lastPrinted>
  <dcterms:modified xsi:type="dcterms:W3CDTF">2018-07-04T18:06:47Z</dcterms:modified>
  <cp:revision>1686</cp:revision>
  <dc:subject/>
  <dc:title>Ingen lysbildetittel</dc:title>
</cp:coreProperties>
</file>