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AE5C-F8EE-4646-AF61-D229F43030A6}" type="slidenum"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F737-FD9F-4CDD-B374-9BEA73A6B89D}" type="slidenum">
              <a:rPr b="0" lang="nn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3086-32B1-4725-9604-1610D1C6B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358B-20FA-41BF-BC32-FC92AFC01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01C9-561E-4C5E-9F4D-3D0338A4A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BA94-40B6-415C-ABA2-78C54D7E6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57364-0153-4501-852A-245853DA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B82EC-C131-472B-AD8F-BDAE28B8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B5B49-D2AC-4E9D-9A87-68FB2846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ACC47-F84C-4E14-AFE3-F5727420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9D4B0-00AC-402A-86EA-86626F77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A443E-FB01-424E-A396-DC2FE653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31C4D-E469-4DD7-9B7F-809DABB4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55E4-6E15-4F16-8A91-4519B5B19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88132-5738-4DAA-8E3F-DD92626A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B5805-8359-4ABC-BADB-C42EE2D3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CCC28-9282-4C50-91DE-85267966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E5D47-EA11-4B93-AFFB-0274E1C2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949BE-4D8C-43BE-BF74-EDBADDDC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71E3-0698-4A22-B847-24A8497922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EC50A-C308-45CC-B39C-6E12F078003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70939-6EFC-4CED-8F93-B29F36CCDD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F14AF-A711-4893-AB05-262C4135A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00E3-E0A2-4FDB-9247-480BF93369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C3564-EA0A-486A-B0D6-AAEE5EDA67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F4836-42B8-4EAB-ABD8-95B088467F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B98A7-C58C-4D25-ACE1-31E753598C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BBED2-2CD4-4D94-B2FF-EE95FB18ED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6B8D5-94E9-4F01-AABB-E76B43BA02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7F353-9975-47ED-8375-9744CD41A2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B176E-FEBA-459A-8C63-E1F577E44F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CC0F6-E1EE-477B-A4A4-BE214DAA0D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25659-B23D-4371-9A42-1446709B061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CF4D4-928C-485B-B7CA-6108F4146F7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4D6C-7AE2-4DB3-8AD8-832C604A7A6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B211-52B4-4C52-BD6E-A30C1A31B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0225-B85C-4F6C-B0B8-6F18E2C15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3D7B-637E-4883-878B-218707940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00FF-5463-4F03-8B10-BDF595F11A0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6A68-89E7-44D4-B458-EF481680B2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5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B3EC-85B2-4D9F-8331-D5B05FCDEC5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4920" y="1768320"/>
            <a:ext cx="90709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Oswald Regular"/>
              </a:rPr>
              <a:t>Tema da Apresentaç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520" y="3497400"/>
            <a:ext cx="90709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tillium Web"/>
              </a:rPr>
              <a:t>Nome Palest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Departamento do Palestr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email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941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swald Regular"/>
              </a:rPr>
              <a:t>Fontes utilizadas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Esta apresentação utiliza as seguintes fontes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Titillium Web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Oswald Regular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UbuntuMono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Você deve ter elas instaladas em seu computador.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713720" y="6527880"/>
            <a:ext cx="971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250C-4752-476F-9B41-5DB16334664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0:16:24Z</dcterms:created>
  <dc:creator>Even Gran</dc:creator>
  <dc:description/>
  <dc:language>en-US</dc:language>
  <cp:lastModifiedBy>Renato Novais</cp:lastModifiedBy>
  <cp:lastPrinted>2018-06-26T20:36:17Z</cp:lastPrinted>
  <dcterms:modified xsi:type="dcterms:W3CDTF">2018-07-04T18:06:47Z</dcterms:modified>
  <cp:revision>1686</cp:revision>
  <dc:subject/>
  <dc:title>Ingen lysbildetittel</dc:title>
</cp:coreProperties>
</file>