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D457-F661-47AF-B8CE-E7AEB0FE0B58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6626-8CF2-40A4-A284-6984C2954D11}" type="slidenum">
              <a:rPr b="0" lang="nn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1950-B30B-4649-8A26-9BEA8EA1B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3248-48E1-4E5D-BAC3-E41E94B8C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8F22-E046-42CA-A1B1-EEE07170A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C366-679C-4397-99E3-C6857BDD6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398D2-544E-4BB5-8E5D-299EEA6D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CD404-17F4-4021-A3FD-560A4356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121B9-0E84-4111-A42E-7D5BAD1C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EABA5-06EE-49E5-9555-B3AA1BC4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CDFD5-93B6-41B3-980C-CA0358BF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1D55E-7FB4-4A68-AFA8-EED2A313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2F136-ABF6-4B27-8399-C11C3D5A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E697-BD2E-443B-AC11-CC82ACD9D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842C7-8E67-48D2-BEFE-7A8795CD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83E3F-7D3D-4790-9435-AC0D7E2F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055FD-19B7-4E84-B59D-7C3E4EE0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477FA-41BB-4A30-A120-C71329E8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66E4F-1F87-4C51-A3C2-02932741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EE74-9FBC-4D2E-89D3-41045FAB43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5391A-31EC-4149-A688-5D81C85786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87792-6641-44B5-8133-1CA2A1F7B9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F8097-F4E8-42BC-B19B-DEABA3BBD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F3AA-2227-42E2-9514-B2B8412B5F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FABEC-E5F2-4457-B39F-4526267661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A37A2-0875-463A-B58A-E10EC2DC96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07525-1BED-425A-A668-D2F1C373CA1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EF9D7-BCC1-4C93-8813-29DBC9BE22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89F08-1B22-4675-89E6-7B21FC19FD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5EDB2-FAC6-402D-BB37-9CA23C12E2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205EF-1342-44AC-B6EA-DAACFF2D06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43214-5C83-43A9-870D-FC672CF8C00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83153-F6F7-4460-8CDF-039DD946ECD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6E4B-6BFC-4124-8D74-85EA7B9B36F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D1F0-3508-41E8-BB81-4D0DC02776D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CD7F-4E8D-4483-93BC-E0DCC3973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CDF4-2160-4071-A111-C039E1C09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BA77-600D-45D8-8F69-0DE00D96C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CCDD-08C7-4744-A930-E4234C78806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90D6-E76C-42D5-A2FA-669D98A50B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5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CA70-F35B-4066-B0E4-74638690323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4920" y="1768320"/>
            <a:ext cx="90709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Oswald Regular"/>
              </a:rPr>
              <a:t>Tema da Apresentaç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520" y="3497400"/>
            <a:ext cx="9070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tillium Web"/>
              </a:rPr>
              <a:t>Nome Palest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Departamento do Palestr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email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941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swald Regular"/>
              </a:rPr>
              <a:t>Fontes utilizadas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Esta apresentação utiliza as seguintes fontes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Titillium Web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Oswald Regular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UbuntuMono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Você deve ter elas instaladas em seu computador.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713720" y="6527880"/>
            <a:ext cx="971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C3F6-EA93-4E8F-85FB-BC569E35B72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0:16:24Z</dcterms:created>
  <dc:creator>Even Gran</dc:creator>
  <dc:description/>
  <dc:language>en-US</dc:language>
  <cp:lastModifiedBy>Renato Novais</cp:lastModifiedBy>
  <cp:lastPrinted>2018-06-26T20:36:17Z</cp:lastPrinted>
  <dcterms:modified xsi:type="dcterms:W3CDTF">2018-07-04T18:06:47Z</dcterms:modified>
  <cp:revision>1686</cp:revision>
  <dc:subject/>
  <dc:title>Ingen lysbildetittel</dc:title>
</cp:coreProperties>
</file>